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media/image11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735-7DDB-4787-9441-32C41C9C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1824-F449-4164-95CE-D9F315FE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7B8-EFFC-4D90-B0DF-EBF9041D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1FC-6AE1-4979-A4E5-0F9E6EE8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D01-0BFA-4E7C-9759-1DCCA598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5E7-58D9-4576-8B7E-A00D14FC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ADE-CEBA-4C6C-8137-560E906B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218-DD86-4E48-86DC-C3F8C81D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818F-738D-4E63-89A1-D9E224B9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2EB2-4C41-408A-ADE0-FE53AF9D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B58-6222-4F04-838F-0CE43C5E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D02-4877-482E-95AE-00A56C6F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DD67-9E1F-4618-826C-394530612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ightn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666880" y="685800"/>
            <a:ext cx="38102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2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990720" y="490680"/>
          <a:ext cx="7391160" cy="316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90680"/>
                    <a:ext cx="739116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"/>
          <p:cNvGraphicFramePr/>
          <p:nvPr/>
        </p:nvGraphicFramePr>
        <p:xfrm>
          <a:off x="609480" y="4205160"/>
          <a:ext cx="8077320" cy="1890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205160"/>
                    <a:ext cx="807732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an electric charge has on other charges in the space around it is the charge’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ic 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strength of an electric field depends on the amount of charge that produces the field and on the distance from the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rection of each field line shows the direction of the force on a positive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457200" y="3657600"/>
          <a:ext cx="3255840" cy="177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657600"/>
                    <a:ext cx="325584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5"/>
          <p:cNvGraphicFramePr/>
          <p:nvPr/>
        </p:nvGraphicFramePr>
        <p:xfrm>
          <a:off x="4114800" y="3733920"/>
          <a:ext cx="4724280" cy="168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733920"/>
                    <a:ext cx="472428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tudy of the behavior of electric charges, including how charge is transferred between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change can be transferred: by friction, by contact, by i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ough charge is transferre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total charge before = the total charge 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is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w of conservation of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Charging by F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Rubbing a balloon on your hair, walking across a carp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lectrons move from you hair to the balloon- balloon becomes negatively charged and hair becomes positively cha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410080" y="1905120"/>
            <a:ext cx="38102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Charging by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Van de Graaff gen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6"/>
          <p:cNvGraphicFramePr/>
          <p:nvPr/>
        </p:nvGraphicFramePr>
        <p:xfrm>
          <a:off x="7162920" y="228600"/>
          <a:ext cx="1689120" cy="17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228600"/>
                    <a:ext cx="168912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7"/>
          <p:cNvSpPr/>
          <p:nvPr/>
        </p:nvSpPr>
        <p:spPr>
          <a:xfrm>
            <a:off x="5450040" y="3479760"/>
            <a:ext cx="384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Charging by 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Bringing your hand near a doorkn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rge moves within an object becaus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transfer of charge without contact between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4952880"/>
            <a:ext cx="472428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 dis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 when a pathway through which charges can move forms sudde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gap between your finger and the doorknob is small enough, the air becomes charged and provides a path for electrons to flow causing a 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L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ic 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perty that causes subatomic particles such as protons and electrons to attract or repel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: protons have positive charge, electrons have nega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he0076l"/>
          <p:cNvPicPr/>
          <p:nvPr/>
        </p:nvPicPr>
        <p:blipFill>
          <a:blip r:embed="rId1"/>
          <a:srcRect l="0" t="0" r="9997" b="0"/>
          <a:stretch/>
        </p:blipFill>
        <p:spPr>
          <a:xfrm>
            <a:off x="5715000" y="3191040"/>
            <a:ext cx="34290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257440" y="33523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Protons =  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Electrons =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   +  (-    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tons       #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atom2"/>
          <p:cNvPicPr/>
          <p:nvPr/>
        </p:nvPicPr>
        <p:blipFill>
          <a:blip r:embed="rId1"/>
          <a:stretch/>
        </p:blipFill>
        <p:spPr>
          <a:xfrm>
            <a:off x="0" y="1371600"/>
            <a:ext cx="51814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ess or shortage of electrons produces a net electric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, a change in the # of electrons causes an electric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…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220932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these two electric charges were brought closer toge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4"/>
          <p:cNvGraphicFramePr/>
          <p:nvPr/>
        </p:nvGraphicFramePr>
        <p:xfrm>
          <a:off x="1371600" y="4038480"/>
          <a:ext cx="1603440" cy="16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038480"/>
                    <a:ext cx="160344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5"/>
          <p:cNvGraphicFramePr/>
          <p:nvPr/>
        </p:nvGraphicFramePr>
        <p:xfrm>
          <a:off x="6858000" y="4114800"/>
          <a:ext cx="1565280" cy="1752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4114800"/>
                    <a:ext cx="15652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would attra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3121200" y="4114800"/>
          <a:ext cx="1603080" cy="16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1200" y="4114800"/>
                    <a:ext cx="160308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5"/>
          <p:cNvGraphicFramePr/>
          <p:nvPr/>
        </p:nvGraphicFramePr>
        <p:xfrm>
          <a:off x="4648320" y="4038480"/>
          <a:ext cx="1565280" cy="1752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038480"/>
                    <a:ext cx="15652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Line 6"/>
          <p:cNvSpPr/>
          <p:nvPr/>
        </p:nvSpPr>
        <p:spPr>
          <a:xfrm flipH="1">
            <a:off x="6248160" y="48769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838080" y="4952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these two charges were brought closer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1981080" y="3733920"/>
          <a:ext cx="122400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733920"/>
                    <a:ext cx="122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5"/>
          <p:cNvGraphicFramePr/>
          <p:nvPr/>
        </p:nvGraphicFramePr>
        <p:xfrm>
          <a:off x="6324480" y="3733920"/>
          <a:ext cx="1225800" cy="1371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3733920"/>
                    <a:ext cx="1225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would repe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609480" y="3733920"/>
          <a:ext cx="122400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733920"/>
                    <a:ext cx="122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5"/>
          <p:cNvGraphicFramePr/>
          <p:nvPr/>
        </p:nvGraphicFramePr>
        <p:xfrm>
          <a:off x="7385040" y="3733920"/>
          <a:ext cx="1225440" cy="1371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5040" y="3733920"/>
                    <a:ext cx="12254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Line 6"/>
          <p:cNvSpPr/>
          <p:nvPr/>
        </p:nvSpPr>
        <p:spPr>
          <a:xfrm>
            <a:off x="5715000" y="4419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182880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ce of attraction or repulsion between electrically charged object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ic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orce is described by Coulomb’s Law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/ 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ce increases as the charg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creases, and decreases as the distanc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cr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3:38:52Z</dcterms:created>
  <dc:creator>Emily Hall</dc:creator>
  <dc:description/>
  <dc:language>en-US</dc:language>
  <cp:lastModifiedBy>Emily Hall</cp:lastModifiedBy>
  <dcterms:modified xsi:type="dcterms:W3CDTF">2011-03-01T14:38:52Z</dcterms:modified>
  <cp:revision>9</cp:revision>
  <dc:subject/>
  <dc:title>PowerPoint Presentation</dc:title>
</cp:coreProperties>
</file>